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274F-F381-4BCA-93FA-3F44F822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6FDC-8452-43B2-AEF1-F62693C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D4DA-2CBE-4FC5-A4BE-028B9F59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490E-67F7-482D-97A9-F8480F8C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BFAE-723A-41FF-87A9-54186292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AB35-EF7B-475C-A375-7FF91DA9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CC3A-E46F-47C5-9C7C-F8D7070E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95A2-00CB-4DDE-9881-D48B8962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6624-D6CB-4A8A-B7EA-709C9B6A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BA35-462A-499D-9097-47ACB4E2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EA0C-2F09-4D6E-ACE9-1D9661A6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C256-F04B-4A96-A053-5802AC20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C51C-A8C2-4E41-89CA-F589FC74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F2A9-12CC-44B5-ABC8-89900328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2C95-87AD-4538-83EE-F807E552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2FF3-7D2A-4C64-94E1-E5C6584F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C07B-B5EE-4FBB-9B45-1886531F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479D-DAF2-4881-884E-0EBC9A47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F5B5-4343-4001-AFE6-F80C4C07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BB52-784D-4EC7-A561-F98B425B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0AF0-7836-465D-A7B5-0A38FB50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63CE3-E6B8-481D-BF35-D6F41CF6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EBFC-4E9B-4E28-AC35-707BD27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58BD-5259-445F-A56D-2DBA5558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C72C-9B0A-444F-8F4D-4E35F3A8B4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8714-22FB-41E3-ADFE-19903E0020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hadedrelief.com/physical/usa_zoom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ecrobeck@salisbury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r. Ed Robeck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916920" y="2779560"/>
            <a:ext cx="723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lisbury University, Maryland,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rican Geological In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bright Research Sch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versiti Kebangsaan Malay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Resear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29080" y="1920960"/>
            <a:ext cx="3887640" cy="3887640"/>
            <a:chOff x="2629080" y="1920960"/>
            <a:chExt cx="3887640" cy="3887640"/>
          </a:xfrm>
        </p:grpSpPr>
        <p:sp>
          <p:nvSpPr>
            <p:cNvPr id="134" name="_s21512"/>
            <p:cNvSpPr/>
            <p:nvPr/>
          </p:nvSpPr>
          <p:spPr>
            <a:xfrm>
              <a:off x="3251160" y="192096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21513"/>
            <p:cNvSpPr/>
            <p:nvPr/>
          </p:nvSpPr>
          <p:spPr>
            <a:xfrm rot="5400000">
              <a:off x="3873600" y="254304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1518"/>
            <p:cNvSpPr/>
            <p:nvPr/>
          </p:nvSpPr>
          <p:spPr>
            <a:xfrm rot="10800000">
              <a:off x="3251160" y="316548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1515"/>
            <p:cNvSpPr/>
            <p:nvPr/>
          </p:nvSpPr>
          <p:spPr>
            <a:xfrm rot="16200000">
              <a:off x="2629080" y="254340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1510"/>
            <p:cNvSpPr/>
            <p:nvPr/>
          </p:nvSpPr>
          <p:spPr>
            <a:xfrm>
              <a:off x="5276880" y="2163960"/>
              <a:ext cx="995400" cy="9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Desig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21511"/>
            <p:cNvSpPr/>
            <p:nvPr/>
          </p:nvSpPr>
          <p:spPr>
            <a:xfrm>
              <a:off x="5278320" y="456732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Imple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1514"/>
            <p:cNvSpPr/>
            <p:nvPr/>
          </p:nvSpPr>
          <p:spPr>
            <a:xfrm>
              <a:off x="2871720" y="216684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Focu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21517"/>
            <p:cNvSpPr/>
            <p:nvPr/>
          </p:nvSpPr>
          <p:spPr>
            <a:xfrm>
              <a:off x="2874960" y="457056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Reflec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481000" y="1371600"/>
            <a:ext cx="35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Strategies &amp; 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(Learning Obj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880" y="167652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Science Inqui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3320" y="556272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2440" y="556272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r. Ed Robeck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240" y="320004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role can “learning objects” play in science instruction, especially with respect to science inqui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286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potential of online learning for the professional development of science teach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8600" y="870120"/>
            <a:ext cx="9588600" cy="6432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19720" y="3352680"/>
            <a:ext cx="15228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276720"/>
            <a:ext cx="152280" cy="15228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4724280"/>
            <a:ext cx="15264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3124080"/>
            <a:ext cx="15228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066680"/>
            <a:ext cx="15228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352680"/>
            <a:ext cx="15264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3505320"/>
            <a:ext cx="15264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ory P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ecrobeck@salisbury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17-547728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ing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ine Professional Developmen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just happened her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3911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35812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happened here awhile ag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47840" cy="632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6324480"/>
            <a:ext cx="40384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n you say from observing thi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07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209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o you know about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76480" y="1600200"/>
            <a:ext cx="6794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0:39:43Z</dcterms:created>
  <dc:creator>Ed Robeck</dc:creator>
  <dc:description/>
  <dc:language>en-US</dc:language>
  <cp:lastModifiedBy>Ed Robeck</cp:lastModifiedBy>
  <dcterms:modified xsi:type="dcterms:W3CDTF">2008-04-09T00:47:16Z</dcterms:modified>
  <cp:revision>6</cp:revision>
  <dc:subject/>
  <dc:title>Dr. Ed Robeck</dc:title>
</cp:coreProperties>
</file>